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6629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99"/>
            </a:gs>
            <a:gs pos="50000">
              <a:srgbClr val="dca44a"/>
            </a:gs>
            <a:gs pos="100000">
              <a:srgbClr val="fbd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7628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Graw-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5619600" y="6508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© 2000 The McGraw-Hill Compan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30"/>
          <p:cNvSpPr/>
          <p:nvPr/>
        </p:nvSpPr>
        <p:spPr>
          <a:xfrm>
            <a:off x="8572680" y="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E6DA-02C1-4524-B71D-3ABB0E1C5D64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-360" y="-360"/>
            <a:ext cx="1905480" cy="1905480"/>
            <a:chOff x="-360" y="-360"/>
            <a:chExt cx="1905480" cy="1905480"/>
          </a:xfrm>
        </p:grpSpPr>
        <p:sp>
          <p:nvSpPr>
            <p:cNvPr id="6" name="Line 1032"/>
            <p:cNvSpPr/>
            <p:nvPr/>
          </p:nvSpPr>
          <p:spPr>
            <a:xfrm flipH="1">
              <a:off x="-360" y="1143000"/>
              <a:ext cx="762120" cy="609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1033"/>
            <p:cNvSpPr/>
            <p:nvPr/>
          </p:nvSpPr>
          <p:spPr>
            <a:xfrm>
              <a:off x="1219320" y="1219320"/>
              <a:ext cx="60948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34"/>
            <p:cNvGrpSpPr/>
            <p:nvPr/>
          </p:nvGrpSpPr>
          <p:grpSpPr>
            <a:xfrm>
              <a:off x="152280" y="-360"/>
              <a:ext cx="1752840" cy="1676880"/>
              <a:chOff x="152280" y="-360"/>
              <a:chExt cx="1752840" cy="1676880"/>
            </a:xfrm>
          </p:grpSpPr>
          <p:sp>
            <p:nvSpPr>
              <p:cNvPr id="9" name="Oval 1035"/>
              <p:cNvSpPr/>
              <p:nvPr/>
            </p:nvSpPr>
            <p:spPr>
              <a:xfrm>
                <a:off x="152280" y="152280"/>
                <a:ext cx="1676520" cy="1524240"/>
              </a:xfrm>
              <a:prstGeom prst="ellipse">
                <a:avLst/>
              </a:prstGeom>
              <a:solidFill>
                <a:srgbClr val="fdefdf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036"/>
              <p:cNvSpPr/>
              <p:nvPr/>
            </p:nvSpPr>
            <p:spPr>
              <a:xfrm>
                <a:off x="380880" y="380880"/>
                <a:ext cx="1219320" cy="10670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 flipV="1">
                <a:off x="1066680" y="-360"/>
                <a:ext cx="8384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 flipH="1" flipV="1">
                <a:off x="228600" y="75960"/>
                <a:ext cx="45720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Text Box 1039"/>
              <p:cNvSpPr/>
              <p:nvPr/>
            </p:nvSpPr>
            <p:spPr>
              <a:xfrm>
                <a:off x="457200" y="469800"/>
                <a:ext cx="1066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000000"/>
                    </a:solidFill>
                    <a:latin typeface="Book Antiqua"/>
                  </a:rPr>
                  <a:t>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Text Box 1040"/>
              <p:cNvSpPr/>
              <p:nvPr/>
            </p:nvSpPr>
            <p:spPr>
              <a:xfrm>
                <a:off x="762120" y="7621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Book Antiqua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:\WINDOWS\DESKTOP\Zeithaml test\slide bckgrd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8"/>
          <p:cNvSpPr/>
          <p:nvPr/>
        </p:nvSpPr>
        <p:spPr>
          <a:xfrm>
            <a:off x="2209680" y="3049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0"/>
          <p:cNvSpPr/>
          <p:nvPr/>
        </p:nvSpPr>
        <p:spPr>
          <a:xfrm>
            <a:off x="2133720" y="16765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1676520" y="2514600"/>
            <a:ext cx="7086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33"/>
                </a:solidFill>
                <a:latin typeface="Times New Roman"/>
              </a:rPr>
              <a:t>BUILD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33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666633"/>
                </a:solidFill>
                <a:latin typeface="Times New Roman"/>
              </a:rPr>
              <a:t>CUST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33"/>
                </a:solidFill>
                <a:latin typeface="Times New Roman"/>
              </a:rPr>
              <a:t>          </a:t>
            </a:r>
            <a:r>
              <a:rPr b="1" i="1" lang="en-US" sz="4400" spc="-1" strike="noStrike">
                <a:solidFill>
                  <a:srgbClr val="666633"/>
                </a:solidFill>
                <a:latin typeface="Times New Roman"/>
              </a:rPr>
              <a:t>RELATIONSHIP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Strategies for Building Relationships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Foundation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nt Quality/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ful 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Bonding Strateg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&amp; Psychological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ization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Relationship Strategies Wh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2666880" y="2057400"/>
            <a:ext cx="3721320" cy="4102200"/>
          </a:xfrm>
          <a:prstGeom prst="triangle">
            <a:avLst>
              <a:gd name="adj" fmla="val 499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2666880" y="205740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666880" y="205740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400800" y="205740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048120" y="533412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3429000" y="449568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3846600" y="3581280"/>
            <a:ext cx="138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005360" y="5560920"/>
            <a:ext cx="105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929400" y="4722840"/>
            <a:ext cx="131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atis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921120" y="3884760"/>
            <a:ext cx="12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et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3846600" y="3122640"/>
            <a:ext cx="13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nh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2888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igure 6-1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Customer Goals of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Relationship Marketing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12000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igure 6-3</a:t>
            </a:r>
            <a:br>
              <a:rPr sz="20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Underlying Logic of Customer Retention Benefits to the Organization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67800" y="3956040"/>
            <a:ext cx="2869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ustomer Retent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creased Pro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292200" y="5861160"/>
            <a:ext cx="234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Employee Loy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741000" y="3956040"/>
            <a:ext cx="108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967480" y="2374920"/>
            <a:ext cx="288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ustomer Satisf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1670040" y="2711520"/>
            <a:ext cx="130824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606680" y="4616280"/>
            <a:ext cx="1663560" cy="128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 flipV="1">
            <a:off x="5645160" y="4680000"/>
            <a:ext cx="1587600" cy="12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 flipH="1" flipV="1">
            <a:off x="5784480" y="2622240"/>
            <a:ext cx="1460520" cy="130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4440" y="53352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igure 6-5</a:t>
            </a:r>
            <a:br>
              <a:rPr sz="20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teps in Market Segmentation and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argeting for Services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387360" y="2901960"/>
            <a:ext cx="1593720" cy="234936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ase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egme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he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6360" y="3201840"/>
            <a:ext cx="1368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994040" y="2908440"/>
            <a:ext cx="1498320" cy="248904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cffcc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ofil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esul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906560" y="3201840"/>
            <a:ext cx="1368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822840" y="2908440"/>
            <a:ext cx="1574640" cy="248904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cffcc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f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ttractiv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795840" y="3278160"/>
            <a:ext cx="1098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EP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5575320" y="2908440"/>
            <a:ext cx="1498680" cy="248904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cffcc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elec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564160" y="3278160"/>
            <a:ext cx="167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EP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7327800" y="2908440"/>
            <a:ext cx="1575000" cy="248904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cffcc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nsure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mpa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7316640" y="3278160"/>
            <a:ext cx="1216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EP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1676520" y="914400"/>
            <a:ext cx="5854680" cy="58546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895480" y="2133720"/>
            <a:ext cx="3353040" cy="335268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886200" y="3124080"/>
            <a:ext cx="1371600" cy="1298520"/>
          </a:xfrm>
          <a:prstGeom prst="ellipse">
            <a:avLst/>
          </a:prstGeom>
          <a:solidFill>
            <a:srgbClr val="ffdd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"/>
          <p:cNvSpPr/>
          <p:nvPr/>
        </p:nvSpPr>
        <p:spPr>
          <a:xfrm flipH="1" flipV="1">
            <a:off x="2362320" y="1981080"/>
            <a:ext cx="167616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6"/>
          <p:cNvSpPr/>
          <p:nvPr/>
        </p:nvSpPr>
        <p:spPr>
          <a:xfrm flipH="1" flipV="1">
            <a:off x="5068440" y="4240080"/>
            <a:ext cx="175284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2514600" y="4253040"/>
            <a:ext cx="1612800" cy="161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H="1">
            <a:off x="5105520" y="1771560"/>
            <a:ext cx="1582560" cy="158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719360" y="3171960"/>
            <a:ext cx="1217520" cy="26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1747800" y="4191120"/>
            <a:ext cx="1201680" cy="3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 flipH="1">
            <a:off x="3757320" y="5433840"/>
            <a:ext cx="422280" cy="116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5027760" y="5448240"/>
            <a:ext cx="463320" cy="11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6218280" y="4164120"/>
            <a:ext cx="12301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4"/>
          <p:cNvSpPr/>
          <p:nvPr/>
        </p:nvSpPr>
        <p:spPr>
          <a:xfrm flipV="1">
            <a:off x="6191280" y="2987280"/>
            <a:ext cx="12049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5040360" y="1041120"/>
            <a:ext cx="436680" cy="116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6"/>
          <p:cNvSpPr/>
          <p:nvPr/>
        </p:nvSpPr>
        <p:spPr>
          <a:xfrm flipH="1" flipV="1">
            <a:off x="3559320" y="1068120"/>
            <a:ext cx="528480" cy="11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844640" y="-90360"/>
            <a:ext cx="60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igure 6-6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evels of Reten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962520" y="2438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. Financial     B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5105520" y="34290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    B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2743200" y="3352680"/>
            <a:ext cx="1371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V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uctural    Bo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657600" y="46004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. Custo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2819520" y="1523880"/>
            <a:ext cx="138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and Frequency Rew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181480" y="167652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ndling and Cross Se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191120" y="12952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le Pri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6095880" y="4495680"/>
            <a:ext cx="138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ial Bonds Among 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6248520" y="35812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l Relations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6019920" y="24382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ous Relations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5334120" y="5486400"/>
            <a:ext cx="108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Intim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3809880" y="58672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s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895480" y="54864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cipation/ Inno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2057400" y="4419720"/>
            <a:ext cx="121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es and Equi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1676520" y="35812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int Invest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1905120" y="2514600"/>
            <a:ext cx="120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d Information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ctives for Chapter 6: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Building Customer Relationships</a:t>
            </a:r>
            <a:br>
              <a:rPr sz="3600"/>
            </a:b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relationship marketing, its goals, and the benefits of long-term relationships for firms and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why and how to estimate customer lifetim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the foundations for successful relationship marketing--quality core services and careful market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you with examples of successful customer retention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 the idea that “the customer isn’t always righ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49536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Relationship Marketing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20192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philosophy of doing business that focuses on keeping and improving current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necessarily emphasize acquiring new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usually cheaper (for the firm)--to keep a current customer costs less than to attract a new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= to build and maintain a base of committed customers who are profitable for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the focus is on the attraction, retention, and enhancement of custom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51444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Lifetime Value of a Customer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3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Customer Lif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Revenue (month/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ustomers convinced via W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Loyalty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of Serving Customer Increase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9068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 Loyal Customer is One Who...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Shows Behavioral Commi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 from only one supplier, even though other options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ly buys more and more from a particular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constructive feedback/sugg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Exhibits Psychological Commi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n’t consider terminating the relationship--psychological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a positive attitude about the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s good things about the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ustomer Loyalty Exercise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56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a service provider you are loyal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do (your behaviors, actions, feelings) that indicates you are loy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are you loyal to this provid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Benefits to the Organization of Customer Loyalty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348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yal customers tend to spend more with the organization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verage costs of relationship maintenance are lower than new customer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retention is more likely with a stable customer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time value of a customer can be very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Benefits to the Customer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116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ent benefits in getting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, social, and continuity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 to sense of well-being and quality of life and other psychological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ance of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ied decision ma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support and friend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de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Customer Isn’t Always Right”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8840" y="211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Not all customers are good relationship custom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rofitable in the long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8T19:24:26Z</dcterms:created>
  <dc:creator/>
  <dc:description/>
  <dc:language>en-US</dc:language>
  <cp:lastModifiedBy>Bright</cp:lastModifiedBy>
  <dcterms:modified xsi:type="dcterms:W3CDTF">2013-08-22T13:00:58Z</dcterms:modified>
  <cp:revision>8</cp:revision>
  <dc:subject/>
  <dc:title>Objectives for Chapter 6: Building Customer Relationships</dc:title>
</cp:coreProperties>
</file>